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AD0-E669-4EAA-B8A2-8079F678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E44-6E27-43CD-BA63-2C55277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450-1E7E-4B62-8215-67A5B17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8C1-E144-41C9-9E7F-5C2B5B15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1B0-8A28-4859-9B0F-2F3F460B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BF7-90FE-4576-97FD-90E0FAF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F4E-CB02-412C-9AF6-FD0C1022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449-CC83-4805-A4B1-7D86500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180-99A5-4111-83D0-47DC070F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DCF-A3FF-4342-B995-FC070E2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162-CDBD-4C90-830B-6068F40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899-4A9C-45D7-83E1-EC53315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04F-A03B-48AB-A05A-2F6103684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:/Mata%20Kuliah/Pancasila/Tayangan/PancasilasbgParadigma/Pancasila%20sbg%20paradigma%20pemb%20politik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NCASILA SEBAGAI PARADIGMA PEMBANGUN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 Paradig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radigma dalam hal ini diartikan sebagai kerangka pikir (menurut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Kamus Besar Bahasa Indonesia Edisi III 2001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), sumber nilai, orientasi dasar, sumber asas serta arah dan tujuan dari suatu perkembangan, perubahan serta proses dalam suatu bidang tertentu. (M.Kaelan 2000: 235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ncasila sebagai paradigma pembangunan mempunyai arti bahwa Pancasila sebagai sumber nilai, sebagai dasar, arah dan tujuan dari proses pembangun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03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ncasila sebagai paradigma pembangunan menempatkan manusia Indonesia sebagai bagian dari pelaksanaan pembangunan nasional di segala bidang yang dengan akal budi dan segala upaya serta selalu mengacu pada nilai-nilai sila-sila Pancasila sebagai sumber nilai dan dasar moral pada proses pembangun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ncasila menempatkan manusia Indonesia sebagai subjek pelaksana sekaligus tujuan pembangunan dengan mendasarkan pada hakikat manusia sebagai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monoplural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, yakni sebagai makhluk pribadi dan makhluk sosial yang membangun dirinya sendiri secara lengkap dan utuh untuk membangun martabat manu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ncasila mengarahkan pembangunan agar selalu dilaksanakan demi kesejahteraan umat manusia dengan rasa nasionalisme, kebesaran bangsa dan keluhuran bangsa sebagai bagian dari umat manusia di du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4">
            <a:hlinkClick r:id="rId1"/>
          </p:cNvPr>
          <p:cNvSpPr/>
          <p:nvPr/>
        </p:nvSpPr>
        <p:spPr>
          <a:xfrm>
            <a:off x="7812000" y="6237360"/>
            <a:ext cx="1042920" cy="322200"/>
          </a:xfrm>
          <a:custGeom>
            <a:avLst/>
            <a:gdLst>
              <a:gd name="textAreaLeft" fmla="*/ 20880 w 1042920"/>
              <a:gd name="textAreaRight" fmla="*/ 1022040 w 1042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69863" h="21600">
                <a:moveTo>
                  <a:pt x="0" y="0"/>
                </a:moveTo>
                <a:lnTo>
                  <a:pt x="69863" y="0"/>
                </a:lnTo>
                <a:lnTo>
                  <a:pt x="69863" y="21600"/>
                </a:lnTo>
                <a:lnTo>
                  <a:pt x="0" y="21600"/>
                </a:lnTo>
                <a:close/>
              </a:path>
              <a:path fill="lightenLess" w="69863" h="21600">
                <a:moveTo>
                  <a:pt x="0" y="0"/>
                </a:moveTo>
                <a:lnTo>
                  <a:pt x="69863" y="0"/>
                </a:lnTo>
                <a:lnTo>
                  <a:pt x="68463" y="1400"/>
                </a:lnTo>
                <a:lnTo>
                  <a:pt x="1400" y="1400"/>
                </a:lnTo>
                <a:close/>
              </a:path>
              <a:path fill="darken" w="69863" h="21600">
                <a:moveTo>
                  <a:pt x="69863" y="0"/>
                </a:moveTo>
                <a:lnTo>
                  <a:pt x="69863" y="21600"/>
                </a:lnTo>
                <a:lnTo>
                  <a:pt x="68463" y="20200"/>
                </a:lnTo>
                <a:lnTo>
                  <a:pt x="68463" y="1400"/>
                </a:lnTo>
                <a:close/>
              </a:path>
              <a:path fill="darkenLess" w="69863" h="21600">
                <a:moveTo>
                  <a:pt x="69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63" y="20200"/>
                </a:lnTo>
                <a:close/>
              </a:path>
              <a:path fill="lighten" w="69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863" h="21600">
                <a:moveTo>
                  <a:pt x="27925" y="3794"/>
                </a:moveTo>
                <a:lnTo>
                  <a:pt x="41938" y="10800"/>
                </a:lnTo>
                <a:lnTo>
                  <a:pt x="279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36:49Z</dcterms:created>
  <dc:creator>Aspire 4710</dc:creator>
  <dc:description/>
  <dc:language>en-US</dc:language>
  <cp:lastModifiedBy>UNY</cp:lastModifiedBy>
  <dcterms:modified xsi:type="dcterms:W3CDTF">2014-04-15T04:30:50Z</dcterms:modified>
  <cp:revision>9</cp:revision>
  <dc:subject/>
  <dc:title>PANCASILA SEBAGAI PARADIGMA</dc:title>
</cp:coreProperties>
</file>